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032BBC-671C-41C3-AE31-CF6D424F7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E33326-CC90-42E6-B7BC-2E151ABF5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690DAD-CFED-4D82-B929-EA53D10CD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EBD28C-1861-4CD5-B61E-B8CB0333F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E63617-3414-42FA-880F-DE0C59006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FE1719-5357-4892-844E-5B164343F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6AD562-2E56-4B5D-AE85-8BFFFB82D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FFC827-D662-405E-94F1-F38AE938D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C54D81-EC95-4954-99DD-CB9F91893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4FC625-8F41-4D35-9089-7EC58391D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C9C17F-2CD2-42A0-B5F8-3EBBACF8F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AADB9B-1A83-4B17-925C-1147228EB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EAAB5D-D835-40D0-813D-DA5AEC545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8E9309-99D6-42B4-A471-BE3185137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3F3995-B207-47D8-8C05-F4EDF1B5D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5E2A9B-FEED-403B-927F-19BD51FF2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8E766A-D480-4895-8D56-95C2BA0E9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B6CC11-8138-4920-9856-5DBD3E983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6A89E8-620F-4505-9E63-CDE5A348F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9FD560-F339-4016-9DB6-51DB0E11C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B85EBA-E695-4925-A60E-A112A166B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0DF3DA-CA35-4DEB-96B3-1250E763B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A97BC2-99E0-4FA9-BF4B-E8AE17138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208518-0513-48F7-87F7-6BF34D17C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FA4175-00E3-4964-BE17-670F6E524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49BD9D-6C2B-4390-98DC-1F2921988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E897A5-A0E0-4AAC-A006-5AFCFA957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397DED-686F-4B35-8DF7-9DA7805F0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71DCD5-49E8-4589-BD35-6F80D6086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E87D74-257D-4FD4-A232-738925B05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4A7F9-016C-4E70-8138-1B865AEA1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0F68F8-7E9D-41E3-9984-E81293107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0B03E8-3199-4F6A-8118-9FCD7F855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552045-F2EA-4BF1-BDF9-D2D78C619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9EECDF-2F96-494F-8CD2-729D129A1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0994E2-B93E-4526-A545-4504CA27D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67B3C6-6557-4DD6-8B14-560D67479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255B70-4CF0-4A07-AF4D-E30D00B1A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4E991B-A709-4854-A056-D89970C61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16BD40-DE92-48D5-BFDC-71D01A8B1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F6AA80-6367-43FA-AA68-E4FDD0D9A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A1FE4-45D4-4253-9813-6AE9E78D4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D75DC8-7A8E-44E8-A52B-4C8028FAA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611BF7-7658-4D13-BDA0-9C0AE3375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3E659D-5ADC-4C46-A3C2-5B859BA3B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9B94A7-26CC-4FC1-B4E2-02A3A7946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E67917-9825-41E4-889E-CAE317655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AD6B2-163F-4DCB-A88C-2926764F6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3DFB1-C376-40BD-B377-8BC09E66B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E138B-91E8-45A1-91B4-7F94A40BB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B3FC3-058A-40E5-95BE-FA8570AD0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B804C-4080-46AD-9101-EE534AA4A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C9016-9F11-46DE-99D5-3C4818151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A8393-02F2-4994-ABC7-616DB0E33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A7AE1-466A-465D-BA99-73B9F5104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9E2D3-7F2D-4EF4-8F02-5B0C953D6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6A75C-A129-422C-BB4B-6280CDCD7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E9341-050D-4468-9D90-6FC800DCE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757A4-9203-4CFE-8986-53238ECDA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0FF06-8C03-4959-AE18-4A8EE0F24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3940B-ED10-4DA8-8FE7-00BD672DB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96508-9264-4C8B-8A7F-7808AABFA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D8C86-84CB-4FB7-B9C0-641354AE2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11BDC-C1C0-4ED2-9E3D-185BA27EE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5C24A-D785-46C2-8EF0-AFD052B15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8E37A-C87C-4F08-A229-C8733AC17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C4904-1128-4B91-9C73-EE9B4318E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1DFFA-2004-4053-BC2A-746FD1B50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8DF6E-BEF5-4A97-8016-A5CFE09B0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14D2B3-B1F0-4001-BA3C-76F01A21B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DA9CCF-2FB3-42D2-A8F1-717BBF25C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18FB89-3AA1-4614-9373-8CDC81A81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51BBCE-7F2B-483B-B30A-26BF7619B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4654B9-E202-4ABD-8B35-44419A4CD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6E84E6-87E0-4DAB-A6F9-182087404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971F55-7DA3-4A0B-8703-8D7467316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709807-147A-453B-8B82-EFF7B2F8E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B1D32D-CD4B-44E9-8B38-6CEABE63F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CB87FD-4341-4C37-AC2A-FC9AC3763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C6F316-3B43-4AB1-8651-59B4CEF76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18376A-EADF-4352-B22D-0A0E48EE0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E8A5DC-F47E-4662-8A2E-49B8602C2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EF372E-F9B0-447B-8E97-838F724D1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44F263-B76E-42FD-A6CD-4E0DEFA1D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44DEE2-48DE-4434-AF95-CD604151B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063456-9323-4C97-A3A5-5A54EA7EA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7BEDCB-FF5D-4A51-97C7-6A16C0903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F4AC3F-AEFC-441E-B731-277B24C34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DAA1D5-7D30-47EF-8C70-6CB5EB3FA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5240EB-9C87-485B-A02F-A687C56FD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C4020C-41B1-4EF5-9772-4FEAD8DCC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561A2B-AD18-458D-A1FC-0DCF79D31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67C90F-1908-4295-A659-407E1A66C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005C80-267A-474D-A2E6-FC894ADE9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BD7C3F-E3E2-4F0B-B9F3-2422B5FB3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CAAF9D-2BAA-4099-A22B-6C48DCFE0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7165CC-1E88-43AB-845F-8FDAC4A21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15730A-FB9C-42F7-9015-76BA608D3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DD8342-44C3-460F-BE3F-B3A4613D5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116BDC-4CBF-4EF2-A5FA-05901BD80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9E0F0B-033A-4433-B2B9-0AF3C6DBD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F2C7EF-9AB5-4ABC-857C-025CF8F81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798022-66A9-4CF8-8B24-084C67AF8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E8711E-0AF8-4788-B5D4-48C947A00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8B1B43-27BE-4A58-B6FE-D7AE72F2B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32EF9B-9AB5-4C89-B921-693EB5302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3862E7-D951-4EDB-840A-1943B10F2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EDAAE8-C65C-409F-BC56-AC7E6C28A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2E0F98-BD59-43EB-A797-1111FD79F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FBF1E3-A599-403C-8EE1-5A9420D9F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90A9DE-329D-4BDC-92F8-AC9B916FA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4875D6-D1AA-42D1-B91A-4BD60C5E9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E6C7B0-6BC9-4562-A4FE-FBFB91885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AB5495-C2D0-404E-80C8-8CC24DA1A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17EF11-5BDB-423A-8129-383D4991B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A9815C-1054-4D94-AE65-E7DF1F15E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0EFBD5-C49D-4723-9A08-80AA4187B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459BF2-54E1-40B1-88BC-F43BE0F56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AF0A79-676D-43C7-99E7-AFA051E1D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BFA0AC-A920-4F02-B8E6-9F496FEB8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9A545B-5CD9-43CD-8A49-7CAEA0B45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2BEB0F-CAB5-438F-B4BF-9764C944E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282F30-48B2-42C0-B1B3-0AD1F27DE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CDDA67-DDF2-4461-A8D7-52C96D278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8D6A0D-71FB-4EF5-83F0-2D718DD00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A5A0BB-1A2E-42EF-9902-041DBD6ED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962B57-84D8-4520-926F-7553D965A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A9225A-64E5-4762-8732-BEC4BD6FC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E7E495-FA6B-4D8C-804B-62F78DD5C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12B12F-74D3-43C7-BB53-B29D36FEB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C41DB9-9FB3-4714-A578-74179494A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E0C175-78B9-4596-AF47-2ABD4505D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09.xml"/><Relationship Id="rId8" Type="http://schemas.openxmlformats.org/officeDocument/2006/relationships/slideLayout" Target="../slideLayouts/slideLayout110.xml"/><Relationship Id="rId9" Type="http://schemas.openxmlformats.org/officeDocument/2006/relationships/slideLayout" Target="../slideLayouts/slideLayout111.xml"/><Relationship Id="rId10" Type="http://schemas.openxmlformats.org/officeDocument/2006/relationships/slideLayout" Target="../slideLayouts/slideLayout112.xml"/><Relationship Id="rId11" Type="http://schemas.openxmlformats.org/officeDocument/2006/relationships/slideLayout" Target="../slideLayouts/slideLayout113.xml"/><Relationship Id="rId12" Type="http://schemas.openxmlformats.org/officeDocument/2006/relationships/slideLayout" Target="../slideLayouts/slideLayout114.xml"/><Relationship Id="rId13" Type="http://schemas.openxmlformats.org/officeDocument/2006/relationships/slideLayout" Target="../slideLayouts/slideLayout115.xml"/><Relationship Id="rId14" Type="http://schemas.openxmlformats.org/officeDocument/2006/relationships/slideLayout" Target="../slideLayouts/slideLayout116.xml"/><Relationship Id="rId15" Type="http://schemas.openxmlformats.org/officeDocument/2006/relationships/slideLayout" Target="../slideLayouts/slideLayout117.xml"/><Relationship Id="rId16" Type="http://schemas.openxmlformats.org/officeDocument/2006/relationships/slideLayout" Target="../slideLayouts/slideLayout118.xml"/><Relationship Id="rId17" Type="http://schemas.openxmlformats.org/officeDocument/2006/relationships/slideLayout" Target="../slideLayouts/slideLayout119.xml"/><Relationship Id="rId18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33.xml"/><Relationship Id="rId8" Type="http://schemas.openxmlformats.org/officeDocument/2006/relationships/slideLayout" Target="../slideLayouts/slideLayout134.xml"/><Relationship Id="rId9" Type="http://schemas.openxmlformats.org/officeDocument/2006/relationships/slideLayout" Target="../slideLayouts/slideLayout135.xml"/><Relationship Id="rId10" Type="http://schemas.openxmlformats.org/officeDocument/2006/relationships/slideLayout" Target="../slideLayouts/slideLayout136.xml"/><Relationship Id="rId11" Type="http://schemas.openxmlformats.org/officeDocument/2006/relationships/slideLayout" Target="../slideLayouts/slideLayout137.xml"/><Relationship Id="rId12" Type="http://schemas.openxmlformats.org/officeDocument/2006/relationships/slideLayout" Target="../slideLayouts/slideLayout138.xml"/><Relationship Id="rId13" Type="http://schemas.openxmlformats.org/officeDocument/2006/relationships/slideLayout" Target="../slideLayouts/slideLayout139.xml"/><Relationship Id="rId14" Type="http://schemas.openxmlformats.org/officeDocument/2006/relationships/slideLayout" Target="../slideLayouts/slideLayout140.xml"/><Relationship Id="rId15" Type="http://schemas.openxmlformats.org/officeDocument/2006/relationships/slideLayout" Target="../slideLayouts/slideLayout141.xml"/><Relationship Id="rId16" Type="http://schemas.openxmlformats.org/officeDocument/2006/relationships/slideLayout" Target="../slideLayouts/slideLayout142.xml"/><Relationship Id="rId17" Type="http://schemas.openxmlformats.org/officeDocument/2006/relationships/slideLayout" Target="../slideLayouts/slideLayout143.xml"/><Relationship Id="rId18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73.xml"/><Relationship Id="rId8" Type="http://schemas.openxmlformats.org/officeDocument/2006/relationships/slideLayout" Target="../slideLayouts/slideLayout74.xml"/><Relationship Id="rId9" Type="http://schemas.openxmlformats.org/officeDocument/2006/relationships/slideLayout" Target="../slideLayouts/slideLayout75.xml"/><Relationship Id="rId10" Type="http://schemas.openxmlformats.org/officeDocument/2006/relationships/slideLayout" Target="../slideLayouts/slideLayout76.xml"/><Relationship Id="rId11" Type="http://schemas.openxmlformats.org/officeDocument/2006/relationships/slideLayout" Target="../slideLayouts/slideLayout77.xml"/><Relationship Id="rId12" Type="http://schemas.openxmlformats.org/officeDocument/2006/relationships/slideLayout" Target="../slideLayouts/slideLayout78.xml"/><Relationship Id="rId13" Type="http://schemas.openxmlformats.org/officeDocument/2006/relationships/slideLayout" Target="../slideLayouts/slideLayout79.xml"/><Relationship Id="rId14" Type="http://schemas.openxmlformats.org/officeDocument/2006/relationships/slideLayout" Target="../slideLayouts/slideLayout80.xml"/><Relationship Id="rId15" Type="http://schemas.openxmlformats.org/officeDocument/2006/relationships/slideLayout" Target="../slideLayouts/slideLayout81.xml"/><Relationship Id="rId16" Type="http://schemas.openxmlformats.org/officeDocument/2006/relationships/slideLayout" Target="../slideLayouts/slideLayout82.xml"/><Relationship Id="rId17" Type="http://schemas.openxmlformats.org/officeDocument/2006/relationships/slideLayout" Target="../slideLayouts/slideLayout83.xml"/><Relationship Id="rId18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85.xml"/><Relationship Id="rId8" Type="http://schemas.openxmlformats.org/officeDocument/2006/relationships/slideLayout" Target="../slideLayouts/slideLayout86.xml"/><Relationship Id="rId9" Type="http://schemas.openxmlformats.org/officeDocument/2006/relationships/slideLayout" Target="../slideLayouts/slideLayout87.xml"/><Relationship Id="rId10" Type="http://schemas.openxmlformats.org/officeDocument/2006/relationships/slideLayout" Target="../slideLayouts/slideLayout88.xml"/><Relationship Id="rId11" Type="http://schemas.openxmlformats.org/officeDocument/2006/relationships/slideLayout" Target="../slideLayouts/slideLayout89.xml"/><Relationship Id="rId12" Type="http://schemas.openxmlformats.org/officeDocument/2006/relationships/slideLayout" Target="../slideLayouts/slideLayout90.xml"/><Relationship Id="rId13" Type="http://schemas.openxmlformats.org/officeDocument/2006/relationships/slideLayout" Target="../slideLayouts/slideLayout91.xml"/><Relationship Id="rId14" Type="http://schemas.openxmlformats.org/officeDocument/2006/relationships/slideLayout" Target="../slideLayouts/slideLayout92.xml"/><Relationship Id="rId15" Type="http://schemas.openxmlformats.org/officeDocument/2006/relationships/slideLayout" Target="../slideLayouts/slideLayout93.xml"/><Relationship Id="rId16" Type="http://schemas.openxmlformats.org/officeDocument/2006/relationships/slideLayout" Target="../slideLayouts/slideLayout94.xml"/><Relationship Id="rId17" Type="http://schemas.openxmlformats.org/officeDocument/2006/relationships/slideLayout" Target="../slideLayouts/slideLayout95.xml"/><Relationship Id="rId18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2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4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399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8EBA1-DB2F-42E5-BD1B-F3E0B32CCC38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7"/>
    <p:sldLayoutId id="2147483767" r:id="rId8"/>
    <p:sldLayoutId id="2147483768" r:id="rId9"/>
    <p:sldLayoutId id="2147483769" r:id="rId10"/>
    <p:sldLayoutId id="2147483770" r:id="rId11"/>
    <p:sldLayoutId id="2147483771" r:id="rId12"/>
    <p:sldLayoutId id="2147483772" r:id="rId13"/>
    <p:sldLayoutId id="2147483773" r:id="rId14"/>
    <p:sldLayoutId id="2147483774" r:id="rId15"/>
    <p:sldLayoutId id="2147483775" r:id="rId16"/>
    <p:sldLayoutId id="2147483776" r:id="rId17"/>
    <p:sldLayoutId id="2147483777" r:id="rId18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443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444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999FE-D1E1-4BBE-86C5-4D606879EC4F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485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486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487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488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66AF6-DEC9-45D9-87AA-1948355DCEE6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7"/>
    <p:sldLayoutId id="2147483793" r:id="rId8"/>
    <p:sldLayoutId id="2147483794" r:id="rId9"/>
    <p:sldLayoutId id="2147483795" r:id="rId10"/>
    <p:sldLayoutId id="2147483796" r:id="rId11"/>
    <p:sldLayoutId id="2147483797" r:id="rId12"/>
    <p:sldLayoutId id="2147483798" r:id="rId13"/>
    <p:sldLayoutId id="2147483799" r:id="rId14"/>
    <p:sldLayoutId id="2147483800" r:id="rId15"/>
    <p:sldLayoutId id="2147483801" r:id="rId16"/>
    <p:sldLayoutId id="2147483802" r:id="rId17"/>
    <p:sldLayoutId id="2147483803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45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57FD4-129B-4B0F-B794-1219D680D275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89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0AE0B-F006-4187-9B37-A1FB6B672314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135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879A2-5192-4650-A8AB-C582F0DEAD32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179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CAF92-606D-4B34-9BC6-C545AA6DE3D1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223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224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0AE82-A5C5-4813-A0E3-883F8FD74915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267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268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850E9-8B65-486C-9F0B-431820AC1FEB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7"/>
    <p:sldLayoutId id="2147483728" r:id="rId8"/>
    <p:sldLayoutId id="2147483729" r:id="rId9"/>
    <p:sldLayoutId id="2147483730" r:id="rId10"/>
    <p:sldLayoutId id="2147483731" r:id="rId11"/>
    <p:sldLayoutId id="2147483732" r:id="rId12"/>
    <p:sldLayoutId id="2147483733" r:id="rId13"/>
    <p:sldLayoutId id="2147483734" r:id="rId14"/>
    <p:sldLayoutId id="2147483735" r:id="rId15"/>
    <p:sldLayoutId id="2147483736" r:id="rId16"/>
    <p:sldLayoutId id="2147483737" r:id="rId17"/>
    <p:sldLayoutId id="2147483738" r:id="rId18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311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312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6A481-74DA-44F8-90E0-4DD9C3F0EE7B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7"/>
    <p:sldLayoutId id="2147483741" r:id="rId8"/>
    <p:sldLayoutId id="2147483742" r:id="rId9"/>
    <p:sldLayoutId id="2147483743" r:id="rId10"/>
    <p:sldLayoutId id="2147483744" r:id="rId11"/>
    <p:sldLayoutId id="2147483745" r:id="rId12"/>
    <p:sldLayoutId id="2147483746" r:id="rId13"/>
    <p:sldLayoutId id="2147483747" r:id="rId14"/>
    <p:sldLayoutId id="2147483748" r:id="rId15"/>
    <p:sldLayoutId id="2147483749" r:id="rId16"/>
    <p:sldLayoutId id="2147483750" r:id="rId17"/>
    <p:sldLayoutId id="2147483751" r:id="rId18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355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356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F202C-6E7B-4A61-ADEE-463A368183B2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85716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Descentralização da Gestão do município de Ponte Alta do Bom Jesu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Espaço Reservado para Número de Slid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78CDE-D141-4A7D-A2CF-68E068169252}" type="slidenum">
              <a:rPr b="0" lang="pt-B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9" name="Tabela 4" descr=""/>
          <p:cNvPicPr/>
          <p:nvPr/>
        </p:nvPicPr>
        <p:blipFill>
          <a:blip r:embed="rId1"/>
          <a:stretch/>
        </p:blipFill>
        <p:spPr>
          <a:xfrm>
            <a:off x="212760" y="1712880"/>
            <a:ext cx="8077320" cy="519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16T12:40:42Z</dcterms:created>
  <dc:creator>Cleison Lima Moura</dc:creator>
  <dc:description/>
  <dc:language>en-US</dc:language>
  <cp:lastModifiedBy>marleidesilva</cp:lastModifiedBy>
  <cp:lastPrinted>2017-04-12T15:53:19Z</cp:lastPrinted>
  <dcterms:modified xsi:type="dcterms:W3CDTF">2017-04-19T19:16:40Z</dcterms:modified>
  <cp:revision>929</cp:revision>
  <dc:subject/>
  <dc:title>Apresentação do PowerPoint</dc:title>
</cp:coreProperties>
</file>